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9619-CC2B-4483-BB13-5BA4214A7D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59D4-10A2-4AB0-A9D7-9F84DB96A5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AC35-EFC8-4FEF-B1FD-1DAFDD3E8C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лиоцентрическая сист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дновременно движется и вокруг своей оси, и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93DF-A209-463E-AE7C-75B8D70BA5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Копер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73 – 1543гг. Великий польский астроном, создатель гелиоцентрической системы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FAA6-CE60-47C7-9A50-0B19C7035D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EDFF-02A8-4B1D-B962-D041894619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 существует единого центра для всех небесных орбит или сф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B2D3-4309-4EA5-A895-DFF15C9FFF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тр Земли является не центром мира, а лишь центром тяготения Земли и лунной орб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0D37-9A71-4D63-AA63-B248C365F6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EE3D-5125-4E31-9BAC-3E91CA6554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DA29-5009-46BB-B1F4-273256C062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0947-C71C-4262-8C2F-599EDDDB43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535D-87DA-40E1-916C-62207A4F5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C43-11C1-4CC7-9C7F-FBAFEE28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D0A-F612-4252-9BB9-C0C947BF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FA5-F6EB-4822-BA7D-6DC88044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881-C92F-45C9-802B-FCED50AD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EABE-4402-414B-8294-C59FAC45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54B1-87D7-4307-863C-6F1EFD95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EC79-B8A7-4660-8BE5-923A59D3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A22C-5EC4-470F-9AAB-E854EBC7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667D-52CC-4040-9E90-ABD18AA1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DDFF-4A71-4785-B373-6198AF1C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EDCA-80A1-4DF3-92F9-C89FCA91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D41-06EA-4568-B275-F640D32A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48AB-556F-4BD0-99F3-1D7805D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2DD4-94EE-4BBD-9616-CE18BB5D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D7D4-A4B5-4CA4-9C03-FE352F63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017B-6626-4D7C-AE1B-BD2DD2AA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BA6D-5412-4D87-BB9D-D4E25E87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24E-F8D1-40CD-847C-046B05AE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C0B-0DB2-469E-BD00-2DC69CF9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035-4B64-49F3-AA16-8FAD7A04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15E-98EA-4A4A-B9AC-E716B03D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5C8-DD15-4D13-9090-13B0E27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754-D9B8-49AF-ADD4-916B8046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3A8-B8D0-410E-9634-60A5D4F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8ADE-0F45-4AB5-9B5C-21C9BF14B08A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13C2-5AC6-42F3-B3F9-E417915D0C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BFD3-911D-428A-8FD3-0C9B406D6E5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E5D9-5B7B-48A5-AE11-44E0AEF4FB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Теории Коперни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елиоцентрическая систем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емля одновременно движется и вокруг своей оси, и вокруг Солн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систума тел"/>
          <p:cNvPicPr/>
          <p:nvPr/>
        </p:nvPicPr>
        <p:blipFill>
          <a:blip r:embed="rId1"/>
          <a:stretch/>
        </p:blipFill>
        <p:spPr>
          <a:xfrm>
            <a:off x="758880" y="2028960"/>
            <a:ext cx="3541680" cy="3714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n00-008"/>
          <p:cNvPicPr/>
          <p:nvPr/>
        </p:nvPicPr>
        <p:blipFill>
          <a:blip r:embed="rId1"/>
          <a:stretch/>
        </p:blipFill>
        <p:spPr>
          <a:xfrm>
            <a:off x="1038240" y="10224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сисетма миар н к"/>
          <p:cNvPicPr/>
          <p:nvPr/>
        </p:nvPicPr>
        <p:blipFill>
          <a:blip r:embed="rId1"/>
          <a:stretch/>
        </p:blipFill>
        <p:spPr>
          <a:xfrm>
            <a:off x="1752480" y="760320"/>
            <a:ext cx="5715000" cy="48196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иколай Коперник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73 – 1543гг. Великий польский астроном, создатель гелиоцентрической системы ми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1" descr="PH03181"/>
          <p:cNvPicPr/>
          <p:nvPr/>
        </p:nvPicPr>
        <p:blipFill>
          <a:blip r:embed="rId1"/>
          <a:stretch/>
        </p:blipFill>
        <p:spPr>
          <a:xfrm>
            <a:off x="1127160" y="1773360"/>
            <a:ext cx="2805120" cy="42256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ория Копер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4" descr="8"/>
          <p:cNvPicPr/>
          <p:nvPr/>
        </p:nvPicPr>
        <p:blipFill>
          <a:blip r:embed="rId1"/>
          <a:stretch/>
        </p:blipFill>
        <p:spPr>
          <a:xfrm>
            <a:off x="4641840" y="2301840"/>
            <a:ext cx="3925800" cy="3168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Не существует единого центра для всех небесных орбит или сфер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2. Центр Земли является не центром мира, а лишь центром тяготения Земли и лунной орби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678204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6781680" cy="3854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3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